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E66-1309-43A3-A713-4B83FC4E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A52-F408-4A17-AA9D-B3B1408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9B9-85E7-4A34-8F4E-A2C62D17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176-EAE0-48BD-9439-E2238F87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A00-8AAD-4F1A-B076-948C65E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BEA-EA27-4086-9672-AC4DDC9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6B9-2F80-4729-A0A6-CE1A0BB6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CEC-CEF0-4D3F-BA24-C80F2A05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680-5ADB-47A3-9C15-ECD1F568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D8E-9138-4A2C-A54B-03B4B79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32B-AAB0-4BFA-9AEC-286E34A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09C-D09E-4563-9348-C3958B3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37E1-49F8-4E6A-A44F-22F3AB826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609480"/>
            <a:ext cx="4190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4267080"/>
            <a:ext cx="18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ivot M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480" y="228600"/>
            <a:ext cx="9077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719280"/>
            <a:ext cx="86392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360" y="480960"/>
            <a:ext cx="9125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0" y="523800"/>
            <a:ext cx="91346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10-02-09T22:15:07Z</dcterms:modified>
  <cp:revision>6</cp:revision>
  <dc:subject/>
  <dc:title>Slide 1</dc:title>
</cp:coreProperties>
</file>